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3.jpeg" ContentType="image/jpeg"/>
  <Override PartName="/ppt/media/image20.jpeg" ContentType="image/jpeg"/>
  <Override PartName="/ppt/media/S%C3%B3%20piano.wav" ContentType="audio/x-wav"/>
  <Override PartName="/ppt/media/image5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BE26-7AEB-4900-B0CF-BE7E233D641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4FE7-8972-4BD9-A0E8-C60B4C4E374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4E7C-F383-4771-85D5-BDC4DB7C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A1D3-8E0D-4189-9AE1-7379D165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D748-FAA6-43FB-90CE-393563CA5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7822-8CBE-41AF-8C8E-5941E608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F95C-F678-41F5-937D-A191E481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38B3-A8FA-4F4F-93CC-98BA85AD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02E3-35E9-4D32-9B0D-77320FD0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039E-1987-4DC8-B3B1-28F89C05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8BFA-B25F-4092-ABCE-F822284F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BD13-F6F8-4AC6-9A48-364C4FDD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5C0A-5C23-4356-99BB-67BF68A2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D874-9FCC-4759-BB87-142CEF66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8203-9F18-44A5-BD77-D6E66107249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S&#243;%20piano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91486952BdTFFq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486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ff"/>
                </a:solidFill>
                <a:latin typeface="Tahoma"/>
              </a:rPr>
              <a:t>Los hijos son como los bar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la_mer.mid" descr=""/>
          <p:cNvPicPr/>
          <p:nvPr/>
        </p:nvPicPr>
        <p:blipFill>
          <a:blip r:embed="rId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83053276kRnKMs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21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Sin embargo, no hay felicidad rápida, algo que pueda ser heredado o transmitido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0" y="4365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La felicidad es una conquista pers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78865796yKZGPC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870440"/>
            <a:ext cx="861048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6ccff"/>
                </a:solidFill>
                <a:latin typeface="Times New Roman"/>
              </a:rPr>
              <a:t>El lugar más seguro en el que el barco puede estar es en el puerto. Pero él no fue hecho para permanecer ahí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345093993rBvpYL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lgunos padres piensan que serán eternamente el puerto seguro de los hijos, y olvidan prepararlos para navegar y encontrar su propio lugar, donde podrán sentirse seguros, felices y  convencidos de que en otro tiempo deberán ser puerto para otras perso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283053821MymbOF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4949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66ccff"/>
                </a:solidFill>
                <a:latin typeface="Times New Roman"/>
              </a:rPr>
              <a:t>Pero, debemos asegurarnos de que  ellos lleven en su equipaje valores heredados com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3333cc"/>
                </a:solidFill>
                <a:latin typeface="Times New Roman"/>
              </a:rPr>
              <a:t>Nadie puede trazar el destino de sus h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283054074ctxfGR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2276640"/>
            <a:ext cx="7772400" cy="2304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HUMILDAD,</a:t>
            </a:r>
            <a:br>
              <a:rPr sz="3200"/>
            </a:b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 HONESTIDAD,</a:t>
            </a:r>
            <a:br>
              <a:rPr sz="3200"/>
            </a:b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DISCIPLINA,</a:t>
            </a:r>
            <a:br>
              <a:rPr sz="3200"/>
            </a:b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RESPETO,</a:t>
            </a:r>
            <a:br>
              <a:rPr sz="3200"/>
            </a:b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DILIGENCIA,</a:t>
            </a:r>
            <a:br>
              <a:rPr sz="3200"/>
            </a:b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PERSEVERANCIA,</a:t>
            </a:r>
            <a:br>
              <a:rPr sz="3200"/>
            </a:b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CORAJE,</a:t>
            </a:r>
            <a:br>
              <a:rPr sz="3200"/>
            </a:b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 GRATITUD, </a:t>
            </a:r>
            <a:br>
              <a:rPr sz="3200"/>
            </a:b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Y GENEROS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346542212OfWJzc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3509640"/>
            <a:ext cx="807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Los hijos nacieron para convertirse un día en ciudadanos de este mundo. </a:t>
            </a:r>
            <a:br>
              <a:rPr sz="3200"/>
            </a:br>
            <a:br>
              <a:rPr sz="3200"/>
            </a:b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Los padres podemos desear la sonrisa de los hijos, mas no podemos sonreír por ellos.</a:t>
            </a: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Podemos contribuír por la felicidad de los hijos, mas no podemos ser felices por ell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2171313GwUysnzuYN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4941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Los hijos deben continuar desde donde los padres llegaron, así como los barcos parten del puerto para sus propias conquis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28600" y="476280"/>
            <a:ext cx="8736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Los padres no deben manipular los pasos de los hijos, ni ellos descansar sobre las conquistas pater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346543906BrOXfJ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377640"/>
            <a:ext cx="8915400" cy="17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Sin embargo, para eso necesitan saberse preparados y amados con la seguridad de que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4149360"/>
            <a:ext cx="8353440" cy="1152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9900"/>
                </a:solidFill>
                <a:latin typeface="Times New Roman"/>
              </a:rPr>
              <a:t>“</a:t>
            </a:r>
            <a:r>
              <a:rPr b="1" i="1" lang="pt-BR" sz="4400" spc="-1" strike="noStrike">
                <a:solidFill>
                  <a:srgbClr val="ff9900"/>
                </a:solidFill>
                <a:latin typeface="Times New Roman"/>
              </a:rPr>
              <a:t>Quien ama educa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73019954UJshOE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¡CÓMO ES DIFÍCIL SOLTAR  LAS AMARRA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91486878JuTury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267080"/>
            <a:ext cx="861048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duca al muchacho al comienzo de su camino, que luego, de viejo, no se apartará de él”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(Provérbios 22: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31124612ICRVgp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4876560"/>
            <a:ext cx="8785440" cy="1576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7c80"/>
                </a:solidFill>
                <a:latin typeface="Times New Roman"/>
              </a:rPr>
              <a:t>Al ver un barco en el puerto, imaginamos que  está en el lugar más segur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326319373gRoxzm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4653000"/>
            <a:ext cx="91440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ffff00"/>
                </a:solidFill>
                <a:latin typeface="Times New Roman"/>
              </a:rPr>
              <a:t>Mientras tanto, él está ahí preparándose y abasteciéndose para lanzarse al mar, el destino para el que fue creado, saliendo al encuentro de sus propias aventuras.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47818755rDpiLG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907920"/>
            <a:ext cx="84582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Dependiendo de lo que la naturaleza le tiene reservado, podrá desviar la ruta, trazar otros caminos o buscar otros puer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104203079CSztJu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7772400" cy="31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Ciertamente volverá más experimentado por el aprendizaje adquirido y enriquecido por las diferentes culturas que conoció. Pero, seguro habrá gente en el puerto feliz esperándo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326318887dGNEJO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558972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Así son los hijos. Ellos tienen en sus padres un puerto segu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283053589YAYwRW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270828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Pero, por más seguridad y sentimientos de protección que puedan sentir junto a sus padres, ellos nacieron para navegar los mares de la vida, correr sus propios riesgos y vivir sus propios re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326319017HuOcGn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5948280"/>
            <a:ext cx="87850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Esas reservas estarán en el interior de cada uno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250920" y="333360"/>
            <a:ext cx="82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3333cc"/>
                </a:solidFill>
                <a:latin typeface="Times New Roman"/>
              </a:rPr>
              <a:t>Con la seguridad que llevarán con ellos el ejemplo de sus padres y los conocimientos adquirido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326320230DtRknM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184440"/>
            <a:ext cx="9144000" cy="6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¡Para buscar la verdadera felicidad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1:56:18Z</dcterms:created>
  <dc:creator>Celso</dc:creator>
  <dc:description/>
  <dc:language>en-US</dc:language>
  <cp:lastModifiedBy>Win7</cp:lastModifiedBy>
  <dcterms:modified xsi:type="dcterms:W3CDTF">2010-09-20T04:04:25Z</dcterms:modified>
  <cp:revision>9</cp:revision>
  <dc:subject/>
  <dc:title>FILHOS SÃO COMO NAVIOS</dc:title>
</cp:coreProperties>
</file>